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E44F-BFC8-486F-BCAF-D37A35F9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32BB-41EC-44C3-8144-6D979508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B112F6-FAA9-4B44-8367-063BC323C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B0C0D70-F417-46C7-BB55-5778B75C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6546A2-35B2-41D7-9DE5-617AAEFBB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5A897B8-3D21-4787-AA14-2B5C1508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9FE18A-4D87-4188-8BCD-AAE27F69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E92C38-932C-407B-97C7-A210AA97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5ECCFA-3A93-4244-9CE0-6A0A2D03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16214A-4A68-4DF2-860C-176F4CFB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AD6930-F498-4616-97E0-E5A1BDC49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4E49FB0-4723-4215-97A5-32B2F1B30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A23B-F045-4B4E-90C5-41796A71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D2CD3C-5B6F-4043-8B85-9263C41A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4BF641-1331-42DD-8CF5-0557F37C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24A241-84AE-4D81-91A3-FEA10A8A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68FCF1-424F-475C-BF4D-2E777952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15AD46-E3BE-4698-B76D-34087ED0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336501-D87B-42BE-A4AA-3AF184F6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016BCD-2489-4689-80F6-2B700EDC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7E208C-E03F-4F17-B7B9-29F4941C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267617-CDDF-4F21-AD01-A8AAAF78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713B8D-A230-4E98-8C70-3E9E6AF1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34F6-D0B9-4CC4-80F1-DB3016C27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038B10-6245-4E48-BF77-68780067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6438C55-4AD1-4F6E-9BFC-EE9D098B4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EABD658-5CD5-4E03-AA22-FFE413B5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F55705-CAC6-49C3-962E-7099AF91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14DB8EF-DD95-4FE2-B38C-635D2AC4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8C61D5-B059-4A60-A132-8D9E4012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E3183B-5D73-4E0A-A092-8EA32B04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0D27B6-4FD9-4A4C-8D62-12B4CC44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F21D118-2314-4932-91D6-889CD206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5CC4BD-2899-4CBE-9CB8-696DAD7B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CA15-032D-4991-9D4F-C96BE54B7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DAF9E6-F140-4AB4-A070-C0EF797C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595C51-6DF5-4B11-907F-06C3C149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1DCF49-DD57-44E6-8198-2E44C79C9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A364B16-7796-4BD5-BB96-4D3D8836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B34F855-3181-46C0-AD37-C880BC28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643EB70-FE4C-4A9D-BA2E-ECBDA0748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329C11-5DE2-4335-88DF-3C8062FC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72F990-170A-405E-87B8-5B7D73A7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43DAC32-D4B2-4473-AE1E-A18EAADF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1A7617-239F-4DC2-9C5B-5A9EFCA4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653FE-3697-4733-88C3-B83F125D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1E8E3D-EF2F-46D6-A7DC-90ABD040A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259C2E7-13E3-49EC-A20D-16A53786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C86CE2-BF68-4E77-83CA-BF054577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374DB85-0579-47D6-B317-E2296538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F9AD455-587C-479B-9326-9102A4B2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793D6AD-5AE6-4A39-82D6-A40B4F89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E71798-9740-41A0-8A2F-83E944CC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1DB2D92-B9E1-4E17-9215-43B4D85D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6326ED4-79AB-4160-8753-73E6F58E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EFD62F1-718E-4E03-86C6-CF0BBEE69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6B74-5056-4F4C-99D9-AE2341B35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7524D3-61A2-424C-8BD8-E02DD7A9C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EAF72F-7ECB-444C-9134-64C8FF96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04CE2CC-7CBE-4229-8521-5075D859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03FC7A7-AEC8-45AA-9A09-4E764D1B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57D7CCC-60C9-4940-A9DE-185574370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34AE248-EE74-45B9-A0CD-50DBA908B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505130-07BE-4497-92C6-D4270DEF4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50F09F2-CC27-4070-A48B-907BB4F9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B0C02BC-5790-495A-8D0A-6EE1A01B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09F2E5-1E32-4A60-B493-21184190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D687-C0B8-4FF8-8F8D-4ACC70A2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BF1DCA-F698-442E-A576-8C06A38B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59FBE8-31C0-48D4-8039-89EBCCD2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11F9E1-337C-46C1-9744-79F33EA2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B4974B1-4999-4DD5-84EC-3B86F1F2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5ECACFC-3DF1-43E9-B066-EBE80DC8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75EAAC-2851-4ED6-B19E-38ECBA38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FDBC485-AB5E-4D61-8845-E4F739D1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5E71ED-7EA6-484C-BB51-F208914FD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618A94E-AC18-48E1-A688-736D6C10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E2C8A0-4F3A-44EF-9E7F-0CC466D83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3CB96-F76B-4C15-9B7B-3F529F32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F4E740-28EA-4903-BF6D-3D4DE22A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0264E80-5B22-4852-BEBF-F9D4BA4A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0A14DBA-FB3B-417F-BA14-660376B9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03845F-17D4-48E9-9D0D-23DC76AC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E25CD92-B935-464A-8B60-DF7D792A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3AFB12-F62D-420D-82AD-4730C6EE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6B6CDCC-C1F4-41AF-809E-BC325CF7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5620628-A9D4-4CDF-A87A-A893D8E2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EC89465-29A1-45D3-A613-323A4211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D8F1716-BAF6-440A-8273-854493484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639F-941E-451A-99FF-CE7856C0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1BE0CE-C6E7-4783-9998-2414891C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862E-6020-46D6-A80C-4FA2346C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2563-1FE0-4326-9721-F59005C8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38B7-4BEC-4963-B414-CA7E7ED2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B5EC-7688-428F-AEAF-A1784869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D080-E6C6-4BF0-8A9F-BF54341D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E4044-7502-41BE-8211-D684A39DA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B5827-ED77-4A04-BA03-F32DAA13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DBDD-273F-4994-99DF-6E1C6B915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89F8-2B54-4596-930A-454E6FB4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766B5-4D24-4C8F-93CC-F13E8BE0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84796-C606-4D0A-8096-D7EEABAE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F1903-8CDA-4EEA-BC85-665E36D2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EA2F-EC78-401A-A9A4-03261B49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3FEC9-BB6D-45D5-9492-8AEC9BF3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AFDE0-3A13-4881-A12C-5C20A265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47E6A-0723-4EDD-AED5-81C42A94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98966-CF3F-417D-B279-FC7CAFCB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1492A-A97D-4EA3-ACE5-31B8995F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9FCBB-E176-44A0-9BF2-9800B06CC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61FD3-4E9A-4C15-93CD-12B45D01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488E-2408-4E99-8119-9332CF9E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8B68E2-445A-40AF-85FC-AAD7CDCDB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32B-002B-46D8-AB50-C3E566998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99FB2C-9BB5-4F80-B4AC-65449CD9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8FAA2-7D06-425C-9462-7208DF17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6494F1-A23A-49C9-8ABF-6BA8977A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5B60F-E946-433E-931E-86E818698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19551-8DBF-456D-9301-1E0D7131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FF771E-2BB9-4A30-AA79-390E1D99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3503A9-6C16-4AA6-B49B-6FB27DCC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6B9F93-AE3F-4E2C-B489-C10F286E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441B5B-0295-482C-AC1F-5758C48D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ADD55-4345-4E69-801D-4BBE45B51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E8D-DB56-49AE-A480-169F37B1F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3C66A1-5842-4AF5-89D9-A984D979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4A1DE2-BA85-498F-A5E5-6A313813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B94B3C-063F-469F-B130-F72E0C89A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3992F-C8B7-4CD8-8CDF-4CE926FE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41B5DA-50CA-4C39-B322-FEB54B62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1919C-3513-4D6E-9EDC-254FCFB4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C9D8FA-9EBE-4E5A-8AE4-87333948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EB789-D77D-46C8-9C0B-8F531ACF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48B51-79FB-47EE-B38F-6C2AF52C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3AE5E3-DDC1-476B-B135-01232F16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202-51B2-4C46-A7FF-61ECEBD8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609B31-DB18-427F-B7F1-211763068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25349A-F615-425B-B4A4-686B03E0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D32E0-9636-4F29-AADA-7113C5F5E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F904C-E3D3-4AD1-BA4E-DD7ECB3C7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ACABCE-85E5-4142-B5BF-FADFBE9DB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4DD0E5-0969-47B8-9C41-066395B6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8CF2E-D6D9-469F-897F-FDC5281F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C67203-030D-43DB-BA37-2A29A84E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24451-8360-4E47-8EE1-4BFE5173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9FB4A-8B58-4E0F-9ABA-A75408A6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CF7A-657A-42D7-AC42-A0B1C24B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732BD-23B6-4F5A-9CAB-829330CAB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19C97-088D-400E-B4EE-3560D1D3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3DE500-6D16-4743-A954-50E1D631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6B2DBE-A6DF-47A3-8B1D-E918F460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DF2E40-D766-471E-86DF-2FD9EE1E7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6AB16C-4FAC-4B7F-8693-8D6E9CB73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5AEAC2-1F6C-4AD2-90CE-F1334173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318F52-4385-4B0A-9730-BD233B39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AB017F-99E9-486E-80ED-9E3625D0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E01159-A5BF-446F-9713-39E8F10C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B45-4BB1-452A-B2A4-2791C01A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DBB19D-5E25-4B69-8BDC-0866AB0E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F9E4E4-701A-4661-83FD-D6D476B1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825C61-627C-4DEC-A9D1-097E46D3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61FD84-BB67-47CA-8E3F-E6EDE259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38F925-291B-4289-B39A-D5C7B951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991C9D2-751A-4F25-B50B-51A1674E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72347C-C88C-483F-9021-3C089F76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1721E6-CF4A-4B02-B45D-CED393F6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D5B1AF-3082-4E19-98E6-10540A90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857A2C8-D660-43F0-953E-1F02399B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877F32-7A85-4C47-839C-8D803AF8B7B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8D5EF4-7C32-48FC-AB69-8645A9461A17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5B6A64-98F6-468C-A73C-FC7AF2EC629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B61DAD-3C66-4A79-8C36-B4F0DCABC8E9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9040E-1F1F-4FE8-B5C7-08B7F7820D8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FC8A55-CDA5-471E-88CE-F1DAA9ADB0C8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C80BF0-EFED-4C28-AA4F-7BD347850CE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D871B-96CF-4F11-9AE6-8188E6B620F1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E03A3-5590-4B14-AA8C-0C803667F29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4854D-4388-4C9A-8844-5F75B377D0FA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594819-BA0C-416F-97B6-589BD2F9A33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CA969A-661D-40B2-8641-1E3662A23558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8DD655-083E-43C5-9C37-D7EC40C3B5C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9A3E5-C676-43FC-A664-CBA3963F6C0E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E6E631-98ED-4B3A-B603-5358908FFCE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48E1C-2BC7-4BB5-ABD0-BA3E35025FD8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8E0B6C-A8F3-4EE2-99A8-3D3B86473D3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DF7755-2864-4DC1-A52C-C70610998B39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D39E1D-2451-4B82-9B1E-8FDC99E596F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FBF47D-1DFB-4F81-9448-D89E297061C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68D8F-2C1F-4068-8CC3-D7E866163502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604373-5445-4139-B596-2F81C26B07FE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E79E24-BFFA-40FA-8CD8-5C4A549BE696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9AF64F-0C19-48C1-8969-E18EEA6FC54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6375D-123A-4255-9351-E11F43DB2379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9ECF10-04B9-4BF4-8A7F-AB145523120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2405F0-1816-4A2A-8876-CB24636B5845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13893-D8EB-455F-9D19-3B85F5A22BA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D0B3F0-9D28-4656-9318-E1884C2271A5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Maslow’s Hierarchy of Needs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Mr. Rush/ Mr. Farrell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Lis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ist the 10  things you </a:t>
            </a:r>
            <a:r>
              <a:rPr b="0" lang="en-US" sz="2400" spc="-1" strike="noStrike">
                <a:solidFill>
                  <a:srgbClr val="3366ff"/>
                </a:solidFill>
                <a:latin typeface="Calisto MT"/>
              </a:rPr>
              <a:t>need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in life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List 3 things you </a:t>
            </a:r>
            <a:r>
              <a:rPr b="0" lang="en-US" sz="2400" spc="-1" strike="noStrike">
                <a:solidFill>
                  <a:srgbClr val="ff0000"/>
                </a:solidFill>
                <a:latin typeface="Calisto MT"/>
              </a:rPr>
              <a:t>want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in life. 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hat categories would you create to organize these </a:t>
            </a:r>
            <a:r>
              <a:rPr b="0" lang="en-US" sz="2400" spc="-1" strike="noStrike">
                <a:solidFill>
                  <a:srgbClr val="3366ff"/>
                </a:solidFill>
                <a:latin typeface="Calisto MT"/>
              </a:rPr>
              <a:t>needs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Calisto MT"/>
              </a:rPr>
              <a:t>wants</a:t>
            </a: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What we will do today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31440" y="1709280"/>
            <a:ext cx="35672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What we will do today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631440" y="2590560"/>
            <a:ext cx="35672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Discuss our own needs and wants</a:t>
            </a:r>
            <a:endParaRPr b="0" lang="en-US" sz="1900" spc="-1" strike="noStrike">
              <a:solidFill>
                <a:srgbClr val="404040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Intro Maslow’s hierarchy of needs</a:t>
            </a:r>
            <a:endParaRPr b="0" lang="en-US" sz="1900" spc="-1" strike="noStrike">
              <a:solidFill>
                <a:srgbClr val="404040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Create your own Hierarchy of Needs for Yourself</a:t>
            </a:r>
            <a:endParaRPr b="0" lang="en-US" sz="1900" spc="-1" strike="noStrike">
              <a:solidFill>
                <a:srgbClr val="404040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Rate Ishmael Beah on your own Hierarchy of Needs</a:t>
            </a:r>
            <a:endParaRPr b="0" lang="en-US" sz="1900" spc="-1" strike="noStrike">
              <a:solidFill>
                <a:srgbClr val="404040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sto MT"/>
              </a:rPr>
              <a:t>HW: Read Chapter 11</a:t>
            </a:r>
            <a:endParaRPr b="0" lang="en-US" sz="19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944600" y="1709280"/>
            <a:ext cx="35672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Objectives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944600" y="2590560"/>
            <a:ext cx="35672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Analyze the results of political, economic, and social oppression and the violation of human rights 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Intro: Maslow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orldproblemsshroderwikispaces.com/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hat did you learn about Maslow?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Calisto MT"/>
              </a:rPr>
              <a:t>Create your own Hierarchy of Needs</a:t>
            </a:r>
            <a:endParaRPr b="0" lang="en-US" sz="43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reate your own hierarchy of need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Discus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How does Ishmael Beah fit on the hierarchy of needs?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20:52:38Z</dcterms:created>
  <dc:creator>Craig Rush</dc:creator>
  <dc:description/>
  <dc:language>en-US</dc:language>
  <cp:lastModifiedBy>Craig Rush</cp:lastModifiedBy>
  <dcterms:modified xsi:type="dcterms:W3CDTF">2011-01-23T21:11:44Z</dcterms:modified>
  <cp:revision>2</cp:revision>
  <dc:subject/>
  <dc:title>Maslow’s Hierarchy of Needs</dc:title>
</cp:coreProperties>
</file>